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0017"/>
              </a:gs>
              <a:gs pos="50000">
                <a:srgbClr val="ff0033"/>
              </a:gs>
              <a:gs pos="100000">
                <a:srgbClr val="760017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72727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72727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057400" y="373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und Kurs i </a:t>
            </a:r>
            <a:r>
              <a:rPr b="1" i="1" lang="en-US" sz="1800" spc="-1" strike="noStrike">
                <a:solidFill>
                  <a:srgbClr val="000000"/>
                </a:solidFill>
                <a:latin typeface="Cooper Black"/>
                <a:ea typeface="Cooper Black"/>
              </a:rPr>
              <a:t>STUNT &amp;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1337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  <a:ea typeface="Impact"/>
              </a:rPr>
              <a:t>SVENSK AMERIKANSKA STUNTSKO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19920" y="3035160"/>
            <a:ext cx="31370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kriv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ursen är en 4  veckors intensivkurs inom </a:t>
            </a:r>
            <a:r>
              <a:rPr b="0" i="1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stunt &amp; actionlösningar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för film och teater. Som skådespelare blir man ofta konfronterad med actionscener och bör vara utbildad inom området. Skådespelaren får genom kursen en fördjupad  insikt inom </a:t>
            </a:r>
            <a:r>
              <a:rPr b="0" i="1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stunt &amp; actio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så som säkerhetsföreskrifter, fallteknik, fightteknik, ridning,  special FX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om kursen kommer skådespelaren agera på ett mer proffesionellt sätt på sin arbetspla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a plats eller kontaktperson för specifikation (eller andra närliggande dokument) hä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8318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kr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s Lundgre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nt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fsinstruktörer är Lars Lundgren  Han har en gedigen erfarenhet och har arbetat i snart 40 år inom yrket. Efter 25 år i Hollywood har Lars kommit hem till Sveri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s har arbetat och medverkat i mer än 70 filmer. Höjdpunkter i karriären blev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mes Bond ” Licence to Kill” och ”Total Recall” med Arnold Swarzenegg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s drev även stuntskola i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3898800" cy="265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3416400"/>
            <a:ext cx="25272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kspråk + histor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al Effects (squibs, breakaways, explosions) + släckning av eld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amp;    bodybur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apen (säkerhetsregler på inspelningsplatsen, agera med va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lltekn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mpol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pp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d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45000"/>
              <a:buFont typeface="CP1252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lmslagsmå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262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ångfilm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BELLAREA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vensk Amerikanska Stuntskolan genom Lars Lundgren kommer att arbeta med </a:t>
            </a:r>
            <a:r>
              <a:rPr b="0" i="1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stunt &amp; actio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lösningar i filmen. Filmen handlar om en kurdisk tjej som kommer till Sverige och startar ett fotbollsla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untskolans elever kommer få möjlighet  att arbeta i fil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ör mer info :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lla-real.com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licka på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51944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ak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s Lundg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TAKE STUNTMENS  AS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stuna Häll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41 94 Kniv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18 - 387 199 mob. 070-4816003 mail stuntlundgren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tor</dc:creator>
  <dc:description/>
  <dc:language>en-US</dc:language>
  <cp:lastModifiedBy>nada</cp:lastModifiedBy>
  <cp:revision>0</cp:revision>
  <dc:subject/>
  <dc:title>MOONLIGHT</dc:title>
</cp:coreProperties>
</file>